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0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7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8D2-B33B-44A0-9B68-EC1A21B1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B8E-35A2-4B97-A89A-6CE828F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676-5EE9-4B3F-8884-379CA02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4ED-86A1-41D4-A27A-968827EA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690-5748-4F15-B3CC-7CA87423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6640" y="142560"/>
            <a:ext cx="8307360" cy="16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F51-0344-4903-95EE-3202FD0B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B67-7FEB-45A2-A7C9-EC104D7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1E9-9D8E-4570-8B81-BBA168F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B86-DEEB-45C6-A062-F5D1474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35A-8F81-4566-AAAD-9322528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1B4-42C6-45C9-9591-5BA65951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1BF-550F-4BF1-9F19-75E56539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6640" y="142560"/>
            <a:ext cx="8307360" cy="16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71640" y="-14400"/>
            <a:ext cx="6377040" cy="662040"/>
          </a:xfrm>
          <a:prstGeom prst="rect">
            <a:avLst/>
          </a:prstGeom>
          <a:solidFill>
            <a:srgbClr val="38a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7640" y="-15840"/>
            <a:ext cx="360720" cy="6873840"/>
          </a:xfrm>
          <a:prstGeom prst="rect">
            <a:avLst/>
          </a:prstGeom>
          <a:solidFill>
            <a:srgbClr val="38a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-14400"/>
            <a:ext cx="2743200" cy="101124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38a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3d7a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-17640" y="142920"/>
            <a:ext cx="32400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97000" y="54000"/>
            <a:ext cx="520560" cy="527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8a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13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7A9-2B60-4AAD-AF88-BF73A739B4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776160" y="1072800"/>
            <a:ext cx="8080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72000" y="5769000"/>
            <a:ext cx="4572000" cy="317520"/>
            <a:chOff x="4572000" y="5769000"/>
            <a:chExt cx="4572000" cy="317520"/>
          </a:xfrm>
        </p:grpSpPr>
        <p:sp>
          <p:nvSpPr>
            <p:cNvPr id="50" name=""/>
            <p:cNvSpPr/>
            <p:nvPr/>
          </p:nvSpPr>
          <p:spPr>
            <a:xfrm flipH="1">
              <a:off x="4572000" y="5769000"/>
              <a:ext cx="4572000" cy="317520"/>
            </a:xfrm>
            <a:prstGeom prst="roundRect">
              <a:avLst>
                <a:gd name="adj" fmla="val 0"/>
              </a:avLst>
            </a:prstGeom>
            <a:solidFill>
              <a:srgbClr val="fc7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77360" y="5815080"/>
              <a:ext cx="22536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02360" y="863640"/>
            <a:ext cx="213516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76640" y="5678640"/>
            <a:ext cx="1392120" cy="514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tm.spb.ru/" TargetMode="External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itm@itm.spb.ru" TargetMode="External"/><Relationship Id="rId2" Type="http://schemas.openxmlformats.org/officeDocument/2006/relationships/hyperlink" Target="http://www.itm.spb.ru/" TargetMode="External"/><Relationship Id="rId3" Type="http://schemas.openxmlformats.org/officeDocument/2006/relationships/hyperlink" Target="http://www.trim.ru/" TargetMode="External"/><Relationship Id="rId4" Type="http://schemas.openxmlformats.org/officeDocument/2006/relationships/hyperlink" Target="http://www.itm.spb.ru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75800" y="1072800"/>
            <a:ext cx="50324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Verdana"/>
                <a:ea typeface="Arial"/>
              </a:rPr>
              <a:t>А</a:t>
            </a: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втоматизированная система управления техническим обслуживанием и ремонтом</a:t>
            </a:r>
            <a:br>
              <a:rPr sz="1600"/>
            </a:br>
            <a:r>
              <a:rPr b="1" lang="ru-RU" sz="1600" spc="-1" strike="noStrike">
                <a:solidFill>
                  <a:srgbClr val="003366"/>
                </a:solidFill>
                <a:latin typeface="Verdana"/>
              </a:rPr>
              <a:t>на основе программного обеспечения</a:t>
            </a:r>
            <a:r>
              <a:rPr b="1" lang="ru-RU" sz="1600" spc="-1" strike="noStrike">
                <a:solidFill>
                  <a:srgbClr val="003366"/>
                </a:solidFill>
                <a:latin typeface="Verdana"/>
                <a:ea typeface="Arial"/>
              </a:rPr>
              <a:t> TRIM</a:t>
            </a:r>
            <a:br>
              <a:rPr sz="1400"/>
            </a:br>
            <a:br>
              <a:rPr sz="1200"/>
            </a:b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TRIM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</a:rPr>
              <a:t>-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Planned Maintenance System</a:t>
            </a:r>
            <a:r>
              <a:rPr b="1" lang="en-US" sz="14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Verdana"/>
                <a:ea typeface="Arial"/>
              </a:rPr>
              <a:t> </a:t>
            </a:r>
            <a:br>
              <a:rPr sz="1400"/>
            </a:br>
            <a:endParaRPr b="1" lang="en-US" sz="1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15920" y="5049360"/>
            <a:ext cx="42418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БЫСТРОЕ ВНЕДРЕНИЕ – СВОИМИ СИЛАМИ!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Процессы в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52440" y="674640"/>
            <a:ext cx="867564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аспортизация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ведение справочников штатного расписания, изготовителей, запчастей, графических изображений, классификации дефектов, текстовых документов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типовых регламентных работ, реестра и древовидной структуры оборудов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ланирование сроков выполнения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формирование плана-графика периодических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абот и непериодических работ по устранению отказов и поврежд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ланирование затрат на ресурсы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трудозатраты, затраты на запасные части 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материалы, сторонние организации, формирование потребности на закупку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Обеспечение складских запасов запасных частей: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формление заявок, приход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расходных складских документов, остатки склада, размещение по местам хран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Оформление заданий на работу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формирование заданий на работу и выдач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распечаток на их проведени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Сбор информации о выполненных работах и состоянии оборудования: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ведени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журнала выполненных работ, журнал дефектов, журнала наработки, журнала параметров технического состояния, оформление отчетов о выполненных работах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чет фактических затраты и материал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олучение информации для анализа: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андартный набор отчетных форм дл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оведения работ,  оценки и анализа  результатов по показателям выполнения плана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казателям работоспособности оборудования, показателям затрата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TRIM-PMS - </a:t>
            </a:r>
            <a:r>
              <a:rPr b="1" lang="ru-RU" sz="1600" spc="-1" strike="noStrike">
                <a:solidFill>
                  <a:srgbClr val="1e3d7a"/>
                </a:solidFill>
                <a:latin typeface="Verdana"/>
              </a:rPr>
              <a:t>процессы и выходные отчетные формы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958080" y="1719360"/>
            <a:ext cx="2185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сле ввода данных в соответствии с регламентом на выходе каждого процесса формируются  систематизированные данные в форме отчетов (распечаток), которые применяются при организации и проведении работ по ТОиР, а также при оценке и анализе результативности систем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31640" y="773280"/>
            <a:ext cx="6355080" cy="5760360"/>
            <a:chOff x="431640" y="773280"/>
            <a:chExt cx="6355080" cy="5760360"/>
          </a:xfrm>
        </p:grpSpPr>
        <p:sp>
          <p:nvSpPr>
            <p:cNvPr id="215" name=""/>
            <p:cNvSpPr/>
            <p:nvPr/>
          </p:nvSpPr>
          <p:spPr>
            <a:xfrm>
              <a:off x="642240" y="2092680"/>
              <a:ext cx="1264680" cy="5500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Список объектов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Лист технических данных оборудовани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41680" y="2092680"/>
              <a:ext cx="1413360" cy="594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Список объектов с работами и запчастями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00920" y="2854080"/>
              <a:ext cx="1902600" cy="3549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Годовые и месячные план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0920" y="3327480"/>
              <a:ext cx="1902600" cy="5922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овые затраты (трудозатраты, запчасти, сторонние организации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0920" y="4038120"/>
              <a:ext cx="1902600" cy="5914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Запрос-заявк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риходная накладна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статки склад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00920" y="4629960"/>
              <a:ext cx="1902600" cy="5929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Заказ-наряд на работу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Наряд-перечень на проведение рабо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74280" y="5282280"/>
              <a:ext cx="1335240" cy="4395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Список архивных рабо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4080" y="2972520"/>
              <a:ext cx="2042640" cy="236520"/>
            </a:xfrm>
            <a:prstGeom prst="wedgeRectCallout">
              <a:avLst>
                <a:gd name="adj1" fmla="val -83458"/>
                <a:gd name="adj2" fmla="val -9171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ирование работы по дефекту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44080" y="3564720"/>
              <a:ext cx="2042640" cy="235800"/>
            </a:xfrm>
            <a:prstGeom prst="wedgeRectCallout">
              <a:avLst>
                <a:gd name="adj1" fmla="val -85893"/>
                <a:gd name="adj2" fmla="val 3231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ирование затра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44080" y="4156560"/>
              <a:ext cx="2042640" cy="237240"/>
            </a:xfrm>
            <a:prstGeom prst="wedgeRectCallout">
              <a:avLst>
                <a:gd name="adj1" fmla="val -87930"/>
                <a:gd name="adj2" fmla="val 48712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беспечение запчастями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7480" y="4732200"/>
              <a:ext cx="1929240" cy="237240"/>
            </a:xfrm>
            <a:prstGeom prst="wedgeRectCallout">
              <a:avLst>
                <a:gd name="adj1" fmla="val -94083"/>
                <a:gd name="adj2" fmla="val 5671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Задание на работу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36160" y="2092680"/>
              <a:ext cx="2836800" cy="659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Классификация работ по устранению дефектов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Классификация источников заявок на работы по устранению дефектов 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1640" y="773280"/>
              <a:ext cx="2723400" cy="420120"/>
            </a:xfrm>
            <a:prstGeom prst="cloudCallout">
              <a:avLst>
                <a:gd name="adj1" fmla="val -1273"/>
                <a:gd name="adj2" fmla="val 10597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Периодические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36160" y="773280"/>
              <a:ext cx="2723400" cy="420120"/>
            </a:xfrm>
            <a:prstGeom prst="cloudCallout">
              <a:avLst>
                <a:gd name="adj1" fmla="val -115"/>
                <a:gd name="adj2" fmla="val 102499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Непериодические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440" y="1507320"/>
              <a:ext cx="1815480" cy="209880"/>
            </a:xfrm>
            <a:prstGeom prst="wedgeRectCallout">
              <a:avLst>
                <a:gd name="adj1" fmla="val -4685"/>
                <a:gd name="adj2" fmla="val 254939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аспортизация оборудовани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8440" y="1823040"/>
              <a:ext cx="1815480" cy="209880"/>
            </a:xfrm>
            <a:prstGeom prst="wedgeRectCallout">
              <a:avLst>
                <a:gd name="adj1" fmla="val 11458"/>
                <a:gd name="adj2" fmla="val 128486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Регламенты и норматив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4080" y="1508040"/>
              <a:ext cx="2042640" cy="209880"/>
            </a:xfrm>
            <a:prstGeom prst="wedgeRectCallout">
              <a:avLst>
                <a:gd name="adj1" fmla="val -66203"/>
                <a:gd name="adj2" fmla="val 254361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Регистрация описания дефект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44080" y="1823040"/>
              <a:ext cx="2042640" cy="209880"/>
            </a:xfrm>
            <a:prstGeom prst="wedgeRectCallout">
              <a:avLst>
                <a:gd name="adj1" fmla="val -58333"/>
                <a:gd name="adj2" fmla="val 118314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Уточнение типа дефект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6280" y="2971080"/>
              <a:ext cx="1794240" cy="237240"/>
            </a:xfrm>
            <a:prstGeom prst="wedgeRectCallout">
              <a:avLst>
                <a:gd name="adj1" fmla="val 60402"/>
                <a:gd name="adj2" fmla="val 13402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Составление плана-график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6280" y="3564720"/>
              <a:ext cx="1794240" cy="235800"/>
            </a:xfrm>
            <a:prstGeom prst="wedgeRectCallout">
              <a:avLst>
                <a:gd name="adj1" fmla="val 59032"/>
                <a:gd name="adj2" fmla="val 10208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ирование затра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6280" y="4156560"/>
              <a:ext cx="1794240" cy="237240"/>
            </a:xfrm>
            <a:prstGeom prst="wedgeRectCallout">
              <a:avLst>
                <a:gd name="adj1" fmla="val 58152"/>
                <a:gd name="adj2" fmla="val 7472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беспечение запчастями 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6280" y="4749120"/>
              <a:ext cx="1794240" cy="236520"/>
            </a:xfrm>
            <a:prstGeom prst="wedgeRectCallout">
              <a:avLst>
                <a:gd name="adj1" fmla="val 57273"/>
                <a:gd name="adj2" fmla="val 16495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Задание на работу 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5600" y="5282280"/>
              <a:ext cx="1105200" cy="473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Классификация дефектов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5040" y="5282280"/>
              <a:ext cx="1815480" cy="236520"/>
            </a:xfrm>
            <a:prstGeom prst="wedgeRectCallout">
              <a:avLst>
                <a:gd name="adj1" fmla="val 58092"/>
                <a:gd name="adj2" fmla="val 37629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тчет о работе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7480" y="5282280"/>
              <a:ext cx="1929240" cy="235800"/>
            </a:xfrm>
            <a:prstGeom prst="wedgeRectCallout">
              <a:avLst>
                <a:gd name="adj1" fmla="val -70194"/>
                <a:gd name="adj2" fmla="val 29847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тчет о работе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74280" y="5874120"/>
              <a:ext cx="1105200" cy="473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планировани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5040" y="5764320"/>
              <a:ext cx="1815480" cy="237240"/>
            </a:xfrm>
            <a:prstGeom prst="wedgeRectCallout">
              <a:avLst>
                <a:gd name="adj1" fmla="val 53402"/>
                <a:gd name="adj2" fmla="val 81699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выполнения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95600" y="5874120"/>
              <a:ext cx="1361520" cy="4399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работоспособности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1640" y="6204240"/>
              <a:ext cx="1105200" cy="329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затра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70880" y="5764320"/>
              <a:ext cx="1815480" cy="236520"/>
            </a:xfrm>
            <a:prstGeom prst="wedgeRectCallout">
              <a:avLst>
                <a:gd name="adj1" fmla="val -62606"/>
                <a:gd name="adj2" fmla="val 35273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выполнения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аспортизация основных производственных фондов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20560" y="819000"/>
            <a:ext cx="8461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формируется древовидная структура оборудования, вносятся характеристики оборудования, создается древовидный справочник запасных частей и материал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360" y="2124000"/>
            <a:ext cx="8415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анные об оборудован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дировка, наименование, тип или модель, серийный номер, производитель, поставщик, владелец, ответственный за эксплуатацию, дата изготовления, дата ввода в эксплуатацию, технические характеристики, статус состояния, графическое изображение, местоположени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четчик наработки оборудова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именование, начальное значение на дату установки, таблица показаний счетчика по датам ввода значени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хнические параметры состояния оборудова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именование, номинальное значение, нижние и верхние (критические и аварийные) допустимые границы, таблица значений параметров по датам ввода значений, текущее значение параметр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Запасные части оборудова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именование по каталогу, каталожный номер, дополнительные данные каталога запчастей, количество необходимое для проведения каждой планируемой рабо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окументация на оборудование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ехнические описания, инструкции, отчетные формы, заполняемые при проведении рабо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97000" y="1042920"/>
            <a:ext cx="8429400" cy="4286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аспортизация основных производственных фондов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62000" y="4657680"/>
            <a:ext cx="3591000" cy="2200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951280" y="2781360"/>
            <a:ext cx="5724360" cy="4076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5029200" y="773280"/>
            <a:ext cx="4114800" cy="2562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53" name=""/>
          <p:cNvSpPr/>
          <p:nvPr/>
        </p:nvSpPr>
        <p:spPr>
          <a:xfrm flipV="1">
            <a:off x="1106640" y="998640"/>
            <a:ext cx="4186080" cy="256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106640" y="3024000"/>
            <a:ext cx="2116080" cy="53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2000" y="3564000"/>
            <a:ext cx="584280" cy="1035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57360" y="3699000"/>
            <a:ext cx="5489640" cy="28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57360" y="3878280"/>
            <a:ext cx="2340000" cy="27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аспортизация основных производственных фондов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237360" y="95400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31640" y="728640"/>
            <a:ext cx="5019840" cy="4572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1280" y="4219560"/>
            <a:ext cx="5314680" cy="2638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062000" y="2079720"/>
            <a:ext cx="7743960" cy="1866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4219560" y="3249720"/>
            <a:ext cx="4924440" cy="2057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941640" y="5003640"/>
            <a:ext cx="5058000" cy="1371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Нормы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91440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Создается список регламентных работ для каждой единицы оборудования с указанием периодичности и необходимых трудовых ресурсов, запчастей и материалов. В случае использования периодичности по наработке вводятся данные в «Журнал наработки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2360" y="2619360"/>
            <a:ext cx="8415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писок регламентных (типовых)  рабо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дировка, наименование, принадлежность к разделу классификатора работ, документы, описывающие методику проведения работы, ответственный за проведение работы, периодичность проведения работы по наработке или календарным период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ивязка работ к каждой единице обору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тветственный за проведение работы, периодичность проведения работы по наработке или календарным период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вод  норм на трудовые ресурсы, запасные части, оплату услуг сторонних организаций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удоемкость работы в человеко-часах, количество необходимых запчастей и материалов, затраты на оплату услуг сторонних организаций, представление данных в стоимостном выражени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827360" y="5273640"/>
            <a:ext cx="4695840" cy="60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871640" y="4464000"/>
            <a:ext cx="4734000" cy="600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1827360" y="6084720"/>
            <a:ext cx="4705200" cy="6289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Нормы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1640" y="728640"/>
            <a:ext cx="5658120" cy="2610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781280" y="2349360"/>
            <a:ext cx="7229520" cy="1933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27000" y="2933640"/>
            <a:ext cx="1079640" cy="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85920" y="3114720"/>
            <a:ext cx="1981440" cy="67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71280" y="3114720"/>
            <a:ext cx="1395720" cy="134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67360" y="3114720"/>
            <a:ext cx="900000" cy="30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6640" y="3114720"/>
            <a:ext cx="36036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Нормы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6507000" y="773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91120" y="1584360"/>
            <a:ext cx="4952880" cy="5114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85920" y="773280"/>
            <a:ext cx="4790880" cy="5038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Регистрация отказов и повреждений 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91440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Verdana"/>
              </a:rPr>
              <a:t>Составляется классификатор дефектов. Регистрируются отказы, повреждения или риски их возникновения. Указывается, кто обнаружил и уточняется их тип и описание.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Основанием для регистрации дефекта могут быть данные технического состояния из «Журнала параметров»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360" y="2843280"/>
            <a:ext cx="8415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правочник дефек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лассификаторы типов, видов, причин, последствий, критичности, обстоятельств обнаружения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писок дефек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дентификационный номер дефекта, привязка к оборудованию или узлу, обстоятельства и место обнаружения, текстовое описание отказа или обнаруженного повреждения, описание возможного риска возникновения отказа , уточненное описание, классификация типа по предпринимаемому действи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Журнал параметров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екущие значения контролируемых параметров технического состояния объекта. Визуальное представление динамики изменения значения параметра с учетом допустимого и предельного уровней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Регистрация отказов и повреждений 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1280" y="684360"/>
            <a:ext cx="5076720" cy="2867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537000" y="1268280"/>
            <a:ext cx="5467320" cy="25815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06280" y="2843280"/>
            <a:ext cx="7172280" cy="2257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438280" y="3581280"/>
            <a:ext cx="6705720" cy="3276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522360" y="4419720"/>
            <a:ext cx="4859280" cy="44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2360" y="4869000"/>
            <a:ext cx="1888920" cy="40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2360" y="4869000"/>
            <a:ext cx="1888920" cy="139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Системы управления техобслуживанием и ремонтом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2952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граммный комплекс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едназначен для организации управления основными фондами и соответствующими процессами – технического обслуживания и ремонта (ТОиР), материально-технического снабжения, ведения складского хозяйства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9144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ПП СпецТек – разработчик программного комплекса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860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ешения на базе программного комплекса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71928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723960" algn="just">
              <a:spcBef>
                <a:spcPts val="1001"/>
              </a:spcBef>
              <a:buClr>
                <a:srgbClr val="003366"/>
              </a:buClr>
              <a:buFont typeface="Arial"/>
              <a:buChar char="●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Технический менеджмент»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решение для крупного и среднего капиталоемкого предприятия и создания соответствующей информационной системы управл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895320" indent="-723960" algn="just">
              <a:spcBef>
                <a:spcPts val="1001"/>
              </a:spcBef>
              <a:buClr>
                <a:srgbClr val="003366"/>
              </a:buClr>
              <a:buFont typeface="Arial"/>
              <a:buChar char="●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lanned Maintenance Syste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решение для предприятий с небольшими ремонтными (сервисными) службами или их отдельных подразделений (цехов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068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Компетенция НПП СпецТе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120" y="551664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истема менеджмента качества НПП СпецТек сертифицирована Госстандартом РФ и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QNet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соответствие международному стандарту ИСО 9001:2000 и распространяется на разработку, проектирование и внедрение корпоративных информационных систем, а также на консультационные услуги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257800" y="1403280"/>
            <a:ext cx="3886200" cy="3295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Регистрация отказов и повреждений 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6507000" y="773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792000" y="728640"/>
            <a:ext cx="3886200" cy="473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15920" y="2971800"/>
            <a:ext cx="6191280" cy="38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сроков выполнения работ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91440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Планируются периодические работы в соответствии с принятыми регламентами обслуживания. Планируются работы по устранению отказов, повреждений и рисков их возникновения. Создается план-график на выбранный период. Сроки работ могут оперативно уточняться с изменением отметок в плане-графике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6640" y="2843280"/>
            <a:ext cx="8326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изуализация плана-графика рабо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стройка показаний осей, изменение масштаба области план-графика, выбор требуемого интервала дат, цветовые отметки работ отражающие статус, показ плана-графика для выбранных ответственных, показ плана-графика для выбранных групп оборудования, показ плана-графика для выбранных групп работ, всплывающие информационные табло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втоматическое планирование  рабо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ланирование работ на основе данных паспортизации оборудования, планирование работ на заданный временной период, ведение журнала работ на текущий период и план-графи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Ручное планирование рабо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перативное перепланирование работ, планирование работ по устранению зарегистрированных отказов, повреждений, описаний рисков их возникновения, выявленных при анализе состояния технических параметров оборудова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сроков выполнения работ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31640" y="2484360"/>
            <a:ext cx="8420400" cy="4152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346640" y="3608280"/>
            <a:ext cx="2251080" cy="1251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4167000" y="4149720"/>
            <a:ext cx="448920" cy="80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16640" y="4149720"/>
            <a:ext cx="2386080" cy="134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57720" y="4103640"/>
            <a:ext cx="1258560" cy="855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7947000" y="4959360"/>
            <a:ext cx="571680" cy="247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15920" y="1089000"/>
            <a:ext cx="2467080" cy="419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15920" y="1719360"/>
            <a:ext cx="3486240" cy="3715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115920" y="1449360"/>
            <a:ext cx="469584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3581280" y="684360"/>
            <a:ext cx="5295960" cy="2685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115920" y="863640"/>
            <a:ext cx="371520" cy="25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021280" y="1538280"/>
            <a:ext cx="271440" cy="23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11280" y="1989000"/>
            <a:ext cx="2970360" cy="193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сроков выполнения работ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11280" y="819000"/>
            <a:ext cx="5438520" cy="4953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285920" y="4238640"/>
            <a:ext cx="7610400" cy="2343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6507000" y="773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91440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Для каждой работы, включенной в план-график, указываются и уточняются плановые трудозатраты, затраты на запасные части и материалы, затраты на выполнение работы сторонними организация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2360" y="2933640"/>
            <a:ext cx="8134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ланирование трудозатрат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удозатраты по привлекаемым людским ресурсам из справочника штатного расписания с учетом тарифных став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ланирование расходования запасных част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нтроль текущих остатков, планирование необходимых запчастей для проведения работ, автоматизированный дозаказ запчастей исходя из плановой потреб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ланирование затрат на сторонние организац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атраты на выполнение работ сторонними (сервисными) организациям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6280" y="907920"/>
            <a:ext cx="5019840" cy="17431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962000" y="2708280"/>
            <a:ext cx="6829560" cy="2867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4543560" y="5067360"/>
            <a:ext cx="4600440" cy="1790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76280" y="5815080"/>
            <a:ext cx="4886280" cy="885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662360" y="1989000"/>
            <a:ext cx="3284640" cy="16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16280" y="5408640"/>
            <a:ext cx="16210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986280" y="1133640"/>
            <a:ext cx="492444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Планирование затрат на ресурсы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6686640" y="68436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57360" y="4143240"/>
            <a:ext cx="7686720" cy="271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0920" y="728640"/>
            <a:ext cx="5229000" cy="36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807000" y="1268280"/>
            <a:ext cx="5076720" cy="2229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беспечение запасными частями и материалами 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9144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Оформляются складские документы («Запрос» и «Приходная накладная») на обеспечение склада ТОиР необходимыми запасными частями и материалами исходя из плановой потребности. Документ «Запрос» передается в службу снабжения. При поступлении требуемых запчастей и материалов оформляется «Приходная накладная» на склад ТОиР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2979720"/>
            <a:ext cx="8370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Заявка на необходимые запасные части и материал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втоматическое формирование заявки (запроса на центральный склад) с учетом остатков склада, плановой потребности, с учетом сформированных и не проведенных ранее складских документов, указание наименований и реквизитов отправителя, адресата, грузоотправителя и грузополучателя для каждого документа, возможность создания сводного документа на основе списка докумен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формление прихода на склад ТОиР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здание приходной накладной вручную и на основе заявки (отправленного запроса). Оформление прихода на склад по накладно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кладской уче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смотр остатков склада. Ведение карточек учета. Распределение запасных частей и материалов по местам хранения на складе. Информация о движении ТМЦ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6080" y="1089000"/>
            <a:ext cx="4390920" cy="16002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беспечение запасными частями и материалами 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206280" y="3114720"/>
            <a:ext cx="6238800" cy="3743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3571920" y="593640"/>
            <a:ext cx="5572080" cy="33339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V="1">
            <a:off x="1827360" y="1358640"/>
            <a:ext cx="4005000" cy="765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851280" y="1133640"/>
            <a:ext cx="4500720" cy="36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905360" y="4284720"/>
            <a:ext cx="4238640" cy="1781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V="1">
            <a:off x="5111640" y="5454360"/>
            <a:ext cx="495360" cy="1035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31640" y="3257640"/>
            <a:ext cx="5096160" cy="3600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122720" y="2259000"/>
            <a:ext cx="4800600" cy="3619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беспечение запасными частями и материалами 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6462720" y="68436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746280" y="773280"/>
            <a:ext cx="4724280" cy="2257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Что такое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?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90720"/>
            <a:ext cx="82296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шение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MS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это готовый к использованию продукт с фиксированной функциональностью («коробочный» продукт), предназначенный для работы с ним пользователей, руководителей и специалистов ремонтных (сервисных) служб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шение создано в рамках концепции «Быстрое внедрение – своими силами», разработанной НПП СпецТек на основе своего опыта внедрения информационных систем, и направленной на создание продуктов высокой степени готов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ножество предприятий имеет довольно компактные ремонтные (сервисные) службы. Областью их ответственности являются процессы ТОиР, которые можно назвать типовыми, так как они весьма похожи на предприятиях данной группы. Система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MS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здана для управления именно такими типовыми процессами, представляет собой стандартное и доступное по цене решение, простое в установке, изучении и эксплуатац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 основ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ринята общая модель процессов технического обслуживания и ремонта на предприятии. Это позволило НПП СпецТек идентифицировать объекты автоматизации, выполнить соответствующие функциональные настройки программного обеспечения, а также разработать достаточно жесткую и универсальную методику внедрения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и регламент его использова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Формирование задания на проведение работы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914400"/>
            <a:ext cx="845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На каждую запланированную работу может быть выдано задание. Задание также может быть сформировано списком на несколько работ. Распечатка задания передается исполнителю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2360" y="2798640"/>
            <a:ext cx="8415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писок работ на заданный период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ильтрация перечня работ их план-графика, журнала на текущий период или журнала дефектов на любой период, получение списка запланированных работ с указанием плановых трудозатрат, запасных частей и материал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Задание на конкретную работу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е и распечатка задания для выдачи исполнителю, содержащего описание работы, список исполнителей и трудоемкость, необходимые запасные части и материалы, должности ответственных лиц и бланк для заполнения данными при выполнении работы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ыполнение работ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и выполнении работы пользователь может просматривать любую справочную информацию, связанную с объектом ТОиР и проводимой работой: текстовую документацию (техническое описание, инструкцию по эксплуатации, чертежи), данные о наличии запчастей на складе, формуляр объекта ТОиР с историей проведенных ремонтов и зарегистрированных дефектов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1640" y="684360"/>
            <a:ext cx="7315200" cy="3771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формление задания на проведение работы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842000" y="2168640"/>
            <a:ext cx="4152600" cy="3066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58" name=""/>
          <p:cNvSpPr/>
          <p:nvPr/>
        </p:nvSpPr>
        <p:spPr>
          <a:xfrm flipV="1">
            <a:off x="3627360" y="2664000"/>
            <a:ext cx="2249640" cy="67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566640" y="4086360"/>
            <a:ext cx="4162680" cy="2771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60" name=""/>
          <p:cNvSpPr/>
          <p:nvPr/>
        </p:nvSpPr>
        <p:spPr>
          <a:xfrm flipH="1">
            <a:off x="2411280" y="3833640"/>
            <a:ext cx="12160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2360" y="728640"/>
            <a:ext cx="5753160" cy="22096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формление задания на проведение работ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46280" y="5553000"/>
            <a:ext cx="7667640" cy="1305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46280" y="3159000"/>
            <a:ext cx="7686360" cy="2371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H="1">
            <a:off x="2232000" y="1854360"/>
            <a:ext cx="1349280" cy="27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22000" y="2438280"/>
            <a:ext cx="1349640" cy="387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формление отчета о выполненной работе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914400"/>
            <a:ext cx="845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результате действий пользователя по регламенту этого процесса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Создается отчет о проделанной работе, в который вносятся фактические данные о сроках, установленных запчастях, фактических трудозатратах, фактической стоимости работ, выполненных сторонними организациями, детальное описание выполненной работы и другое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2360" y="3294000"/>
            <a:ext cx="8370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формление отчетов о выполненных работа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актические даты выполнения, исполнитель работы, дополнительно привлекаемые людские ресурсы, показания счетчика наработки на момент проведения работы, фактические трудозатраты, фактические  денежные средства, перечисленные сторонним организациям, перечень и количество фактически израсходованных запчастей, значения измеренных параметров до и после работы, заполнение форм отчетных документов (таблиц формуляров), примечания о работе в произвольном текстовом формат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Если работа была связана с устранением дефекта, то вносится детальное описание дефекта с заполнением данных по классификации дефекта с использованием справочников видов, последствий, причин, критичности и други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формление отчета о выполненной работе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22360" y="638280"/>
            <a:ext cx="4209840" cy="1695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797360" y="1179360"/>
            <a:ext cx="4210200" cy="4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4797360" y="1674720"/>
            <a:ext cx="4210200" cy="476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522360" y="5003640"/>
            <a:ext cx="4209840" cy="1038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611280" y="3564000"/>
            <a:ext cx="4114800" cy="1314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522360" y="2484360"/>
            <a:ext cx="4209840" cy="990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4842000" y="2303640"/>
            <a:ext cx="4162320" cy="1914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flipH="1">
            <a:off x="3762000" y="2438280"/>
            <a:ext cx="1258920" cy="1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1280" y="1042920"/>
            <a:ext cx="3240360" cy="135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566640" y="6173640"/>
            <a:ext cx="4210200" cy="543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 flipH="1">
            <a:off x="3402000" y="2933640"/>
            <a:ext cx="270000" cy="76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401640" y="4014720"/>
            <a:ext cx="405000" cy="117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851280" y="5499000"/>
            <a:ext cx="450720" cy="80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9"/>
          <a:stretch/>
        </p:blipFill>
        <p:spPr>
          <a:xfrm>
            <a:off x="4932360" y="459900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V="1">
            <a:off x="4572000" y="4959360"/>
            <a:ext cx="3780000" cy="166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7677000" cy="170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Оформление отчета о выполненной работе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6597720" y="728640"/>
            <a:ext cx="2428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римеры форм отчетов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019840" y="2124000"/>
            <a:ext cx="4124160" cy="3400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50920" y="2981160"/>
            <a:ext cx="6181560" cy="3876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476280" y="1898640"/>
            <a:ext cx="8505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Контроль выполнения мероприятий по техническому обслуживанию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перативный контроль статуса выполнения работ (запланировано, начато, выполнено, просрочено), количество просроченных работ, соблюдение сроков выполнения работ, количество перенесенных работ, формирование журнала выполненных рабо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Анализ состояния оборудования по контролируемым параметр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намика изменения параметров состояния, перечень оборудования с параметрами за пределами допусков, средние значения параметров, анализ состояния оборудования по контролируемым параметр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Анализ отказов и повреждений обору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речень дефектов оборудования, распределение по видам, последствиям, причинам и критичности, анализ мероприятий направленных на устранение дефектов, показател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TBF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TTR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Анализ затрат на техническое обслужива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лановые затраты по проведение работ, фактические затраты на выполненные работы, затраты на устранение отказов, повреждений и рисков их возникновения. Распределение затрат на запасные части и материалы, трудовые затраты, сторонние организаци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Анализ расходования запасных частей и материа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по неликвидам, расходу запчастей и материалов на плановое ТО и устранение отказ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6280" y="72864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веденные данные систематизируются и представляются в виде показателей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PI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 для оценки и анализа системы ТОиР. Наглядность показателей обеспечивается набором стандартных отчетных форм (распечаток), поставляемых в составе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-PMS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566640" y="684360"/>
            <a:ext cx="816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Контроль выполнения мероприятий по техническому обслуживанию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перативный контроль статуса выполнения работ (запланировано, начато, выполнено, просрочено), количество просроченных работ, соблюдение сроков выполнения работ, количество перенесенных работ, формирование журнала выполненных рабо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85920" y="1808280"/>
            <a:ext cx="4095720" cy="4628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797360" y="1808280"/>
            <a:ext cx="4019760" cy="2543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797360" y="4373640"/>
            <a:ext cx="4019760" cy="150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522360" y="684360"/>
            <a:ext cx="816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Анализ состояния оборудования по контролируемым параметр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Динамика изменения параметров состояния, перечень оборудования с параметрами за пределами допусков, средние значения параметров, анализ состояния оборудования по контролируемым параметр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5920" y="5138640"/>
            <a:ext cx="3895560" cy="1028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85920" y="4238640"/>
            <a:ext cx="3895560" cy="866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85920" y="1897200"/>
            <a:ext cx="3914640" cy="1409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385920" y="3338640"/>
            <a:ext cx="3914640" cy="952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4751280" y="2438280"/>
            <a:ext cx="3867120" cy="1324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4797360" y="4149720"/>
            <a:ext cx="3619440" cy="150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522360" y="638280"/>
            <a:ext cx="862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Анализ отказов и повреждений обору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еречень дефектов оборудования, распределение по видам, последствиям, причинам и критичности, анализ мероприятий направленных на устранение дефектов, показател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TBF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TTR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021280" y="1449360"/>
            <a:ext cx="3676680" cy="504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836640" y="1449360"/>
            <a:ext cx="3610080" cy="507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511280" y="4643280"/>
            <a:ext cx="3686040" cy="1924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Что такое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?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42920"/>
            <a:ext cx="8281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граммно-методический комплекс TRIM-PMS впервые был предложен заказчикам в октябре 2005 года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 тех пор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прерывно совершенствовался, оставаясь «коробочным» продуктом, наследуя все функции от предыдущих версий. В новую версию TRIM-PMS из базового программного продукта (комплекс TRIM) дополнительно перенесена функциональность, связанная с регистрацией, классификацией, обработкой и анализом дефе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цептуальные изменения новой версии TRIM-PMS состоят в том, что в ней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ализована типовая модель системы ТОиР, предлагаемая предприятию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формирован типовой регламент использования ИСУ ТОиР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ределены роли пользователей в многопользовательской системе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зработан набор отчетных форм для организации и проведения ТОиР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ределены и измеряются показатели KPI, которые логически завершаю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сю последовательность действий пользователей в системе ТОиР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недрение новой версии TRIM-PMS с участием НПП СпецТек или его партнеров допускает реализацию дополнительных измеримых показателей работоспособности оборудования OEE за счет включения в TRIM-PMS соответствующей функциональности комплекса TRI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431640" y="638280"/>
            <a:ext cx="816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Анализ затрат на техническое обслужива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лановые затраты по проведение работ, фактические затраты на выполненные работы, затраты на устранение отказов, повреждений и рисков их возникновения. Распределение затрат на запасные части и материалы, трудовые затраты, сторонние организаци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22360" y="1808280"/>
            <a:ext cx="5638680" cy="38098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921280" y="4219560"/>
            <a:ext cx="3038400" cy="2638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551640" y="1538280"/>
            <a:ext cx="24573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522360" y="684360"/>
            <a:ext cx="816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Анализ расходования запасных частей и материа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Данные по неликвидам, расходу запчастей и материалов на плановое ТО и устранение отказ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76280" y="1224000"/>
            <a:ext cx="3952800" cy="5457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842000" y="1268280"/>
            <a:ext cx="3886200" cy="5353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062000" y="4599000"/>
            <a:ext cx="3914640" cy="2104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Оценка и анализ системы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385920" y="628560"/>
            <a:ext cx="85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 «дерева проблем» позволяет определять факторы, влияющие на каждый показатель. Далее, анализируя информацию из базы данных, можно определить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 объекты, где следует применить корректирующие и предупреждающие действ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61000" y="1204920"/>
            <a:ext cx="26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Пример анализ дерева затрат на ТОиР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6280" y="1260360"/>
            <a:ext cx="8626320" cy="5499360"/>
            <a:chOff x="476280" y="1260360"/>
            <a:chExt cx="8626320" cy="5499360"/>
          </a:xfrm>
        </p:grpSpPr>
        <p:grpSp>
          <p:nvGrpSpPr>
            <p:cNvPr id="426" name=""/>
            <p:cNvGrpSpPr/>
            <p:nvPr/>
          </p:nvGrpSpPr>
          <p:grpSpPr>
            <a:xfrm>
              <a:off x="476280" y="1494000"/>
              <a:ext cx="3314520" cy="1828800"/>
              <a:chOff x="476280" y="1494000"/>
              <a:chExt cx="3314520" cy="1828800"/>
            </a:xfrm>
          </p:grpSpPr>
          <p:sp>
            <p:nvSpPr>
              <p:cNvPr id="427" name=""/>
              <p:cNvSpPr/>
              <p:nvPr/>
            </p:nvSpPr>
            <p:spPr>
              <a:xfrm>
                <a:off x="2533680" y="2360160"/>
                <a:ext cx="125712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Работоспособность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76200" y="2456280"/>
                <a:ext cx="125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33400" y="1975320"/>
                <a:ext cx="3427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flipV="1">
                <a:off x="1733040" y="2264040"/>
                <a:ext cx="11412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847520" y="2456280"/>
                <a:ext cx="11412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6280" y="2071440"/>
                <a:ext cx="125712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MTT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6280" y="1782720"/>
                <a:ext cx="125712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MTBF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6280" y="2552760"/>
                <a:ext cx="137160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</a:t>
                </a: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 по причинам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flipV="1">
                <a:off x="1733040" y="1685880"/>
                <a:ext cx="571320" cy="7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6280" y="1494000"/>
                <a:ext cx="125712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% по</a:t>
                </a: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оборудованию 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1847880" y="2456280"/>
                <a:ext cx="342720" cy="38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6280" y="2841480"/>
                <a:ext cx="137160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% по</a:t>
                </a: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 </a:t>
                </a: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последствиям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6280" y="3130560"/>
                <a:ext cx="1371600" cy="192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</a:t>
                </a:r>
                <a:r>
                  <a:rPr b="0" lang="ru-RU" sz="800" spc="-1" strike="noStrike">
                    <a:solidFill>
                      <a:srgbClr val="003366"/>
                    </a:solidFill>
                    <a:latin typeface="Arial"/>
                  </a:rPr>
                  <a:t> по видам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847520" y="2456280"/>
                <a:ext cx="571320" cy="67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76280" y="3625920"/>
              <a:ext cx="3084480" cy="1828440"/>
              <a:chOff x="476280" y="3625920"/>
              <a:chExt cx="3084480" cy="1828440"/>
            </a:xfrm>
          </p:grpSpPr>
          <p:sp>
            <p:nvSpPr>
              <p:cNvPr id="442" name=""/>
              <p:cNvSpPr/>
              <p:nvPr/>
            </p:nvSpPr>
            <p:spPr>
              <a:xfrm>
                <a:off x="2305080" y="4652640"/>
                <a:ext cx="125568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Выполнение плана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76560" y="4768920"/>
                <a:ext cx="102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19280" y="4197240"/>
                <a:ext cx="34272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733760" y="4768920"/>
                <a:ext cx="342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6280" y="3968640"/>
                <a:ext cx="11430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 отложенных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6280" y="4883040"/>
                <a:ext cx="125748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 устранений отказов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6280" y="5226120"/>
                <a:ext cx="125748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 устранений рисков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19280" y="4540320"/>
                <a:ext cx="1141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6280" y="4311720"/>
                <a:ext cx="1143000" cy="228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 периодических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619280" y="3854520"/>
                <a:ext cx="57132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6280" y="3625920"/>
                <a:ext cx="11430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% выполненных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76280" y="5730840"/>
              <a:ext cx="3429000" cy="1028880"/>
              <a:chOff x="476280" y="5730840"/>
              <a:chExt cx="3429000" cy="10288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76480" y="5959440"/>
                <a:ext cx="18288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Затраты 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19280" y="5959440"/>
                <a:ext cx="2282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618920" y="60739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619280" y="6073920"/>
                <a:ext cx="342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6280" y="5730840"/>
                <a:ext cx="11430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Запчасти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6280" y="6188040"/>
                <a:ext cx="11430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Сторонние  орг. 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6280" y="6531120"/>
                <a:ext cx="11430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Трудозатраты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04800" y="6073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4302000" y="1549440"/>
              <a:ext cx="4800600" cy="5074920"/>
              <a:chOff x="4302000" y="1549440"/>
              <a:chExt cx="4800600" cy="50749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5525640" y="1743120"/>
                <a:ext cx="3576960" cy="4358160"/>
                <a:chOff x="5525640" y="1743120"/>
                <a:chExt cx="3576960" cy="43581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8067240" y="3679920"/>
                  <a:ext cx="1035360" cy="48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Затраты на ТОиР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фактические и плановые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561000" y="3970440"/>
                  <a:ext cx="150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125840" y="3002040"/>
                  <a:ext cx="564480" cy="96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31520" y="1936440"/>
                  <a:ext cx="847080" cy="203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7125840" y="3970440"/>
                  <a:ext cx="658800" cy="19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19440" y="3970440"/>
                  <a:ext cx="376200" cy="48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25640" y="1743120"/>
                  <a:ext cx="150588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Периодическое обслуживание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25640" y="2808360"/>
                  <a:ext cx="16002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Устранение риска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525640" y="4454640"/>
                  <a:ext cx="169416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Устранение отказа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525640" y="5907600"/>
                  <a:ext cx="16002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Устранение повреждения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302000" y="1549440"/>
                <a:ext cx="1223640" cy="871200"/>
                <a:chOff x="4302000" y="1549440"/>
                <a:chExt cx="1223640" cy="8712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243400" y="1743120"/>
                  <a:ext cx="1879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243040" y="1839960"/>
                  <a:ext cx="9396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243400" y="1839960"/>
                  <a:ext cx="282240" cy="3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302000" y="154944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Запчасти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302000" y="193680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Сторонние орг.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302000" y="2227320"/>
                  <a:ext cx="94140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Трудозатраты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960800" y="1839960"/>
                  <a:ext cx="56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302000" y="2653920"/>
                <a:ext cx="1223640" cy="871200"/>
                <a:chOff x="4302000" y="2653920"/>
                <a:chExt cx="1223640" cy="87120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243400" y="2847600"/>
                  <a:ext cx="1879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5243040" y="2944440"/>
                  <a:ext cx="9396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5243400" y="2944440"/>
                  <a:ext cx="282240" cy="3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302000" y="265392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Запчасти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302000" y="304128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Сторонние орг.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302000" y="3331800"/>
                  <a:ext cx="94140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Трудозатраты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960800" y="2944440"/>
                  <a:ext cx="56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302000" y="4300200"/>
                <a:ext cx="1223640" cy="871200"/>
                <a:chOff x="4302000" y="4300200"/>
                <a:chExt cx="1223640" cy="871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400" y="4493880"/>
                  <a:ext cx="1879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5243040" y="4590720"/>
                  <a:ext cx="9396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5243400" y="4590720"/>
                  <a:ext cx="282240" cy="3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302000" y="430020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Запчасти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302000" y="468756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Сторонние орг.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302000" y="4978080"/>
                  <a:ext cx="94140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Трудозатраты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60800" y="4590720"/>
                  <a:ext cx="56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4302000" y="5753160"/>
                <a:ext cx="1223640" cy="871200"/>
                <a:chOff x="4302000" y="5753160"/>
                <a:chExt cx="1223640" cy="8712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243400" y="5946840"/>
                  <a:ext cx="187920" cy="9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5243040" y="6043680"/>
                  <a:ext cx="93960" cy="9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5243400" y="6043680"/>
                  <a:ext cx="282240" cy="3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302000" y="575316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Запчасти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02000" y="6140520"/>
                  <a:ext cx="941400" cy="19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Сторонние орг.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302000" y="6431040"/>
                  <a:ext cx="941400" cy="19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3366"/>
                      </a:solidFill>
                      <a:latin typeface="Arial"/>
                    </a:rPr>
                    <a:t>Трудозатраты </a:t>
                  </a:r>
                  <a:endParaRPr b="0" lang="en-US" sz="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960800" y="6043680"/>
                  <a:ext cx="56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476280" y="1260360"/>
              <a:ext cx="307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Показатели работоспособности оборудования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6280" y="3367080"/>
              <a:ext cx="307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Показатели эффективности планирования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6280" y="5499000"/>
              <a:ext cx="307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Показатели затрат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807000" y="4284720"/>
            <a:ext cx="1890360" cy="14698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Пользователи в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341280" y="684360"/>
            <a:ext cx="88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ределение ролей в типовой модели ИСУ ТОиР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MS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5 пользовател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2360" y="2664000"/>
            <a:ext cx="2340000" cy="1214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Цели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Стратег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Ресурсы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казател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ценк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Анализ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22360" y="3159000"/>
            <a:ext cx="1935360" cy="1656000"/>
          </a:xfrm>
          <a:prstGeom prst="leftRightArrow">
            <a:avLst>
              <a:gd name="adj1" fmla="val 50000"/>
              <a:gd name="adj2" fmla="val 23265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смотры и чистка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борудова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Мониторинг состоя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Регистрация дефектов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Заявки на работы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редложе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58080" y="3311640"/>
            <a:ext cx="1935000" cy="1655640"/>
          </a:xfrm>
          <a:prstGeom prst="leftRightArrow">
            <a:avLst>
              <a:gd name="adj1" fmla="val 50000"/>
              <a:gd name="adj2" fmla="val 23266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ланы-графики ППР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ланирование работ по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заявкам производства,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 устранению дефектов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Контроль выполне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Распределение ресурсов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68440" y="5049720"/>
            <a:ext cx="1935000" cy="1656000"/>
          </a:xfrm>
          <a:prstGeom prst="leftRightArrow">
            <a:avLst>
              <a:gd name="adj1" fmla="val 50000"/>
              <a:gd name="adj2" fmla="val 23261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лучение заданий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перативное планирование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Выполнение работ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формление отчетов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дача заявок на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запасные части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02360" y="5202360"/>
            <a:ext cx="1935000" cy="1655640"/>
          </a:xfrm>
          <a:prstGeom prst="leftRightArrow">
            <a:avLst>
              <a:gd name="adj1" fmla="val 50000"/>
              <a:gd name="adj2" fmla="val 23266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бработка заявок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лучение запасных частей на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складе службы снабжения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ередача на склад ТОиР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Ведение номенклатуры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запасных частей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16640" y="1449360"/>
            <a:ext cx="250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Verdana"/>
              </a:rPr>
              <a:t>Технический менеджер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ланирует периодическое обслуживание и принимает заявки на устранение отказов и повреждений, контролирует выполнение плана-графика и распределяет ресурсы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Verdana"/>
              </a:rPr>
              <a:t>Специалист по запасным частям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ведет номенклатурные перечни, принимает заявки на закупки, ведет складское хозяйство, выдает запчасти со склада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31640" y="1268280"/>
            <a:ext cx="232092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Verdana"/>
              </a:rPr>
              <a:t>Начальник смены производства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обнаружив повреждение или отказ, подает заявку на его устранение и принимает выполненную работу, проводит визуальные осмотры, оформляет отчеты об осмотрах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Verdana"/>
              </a:rPr>
              <a:t>Механик ремонтной службы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получает задание на выполнение работы, получает запасные части на складе, выполняет работу, оформляет отчеты о ее выполнении и расходе запчастей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311640" y="104292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366"/>
                </a:solidFill>
                <a:latin typeface="Verdana"/>
              </a:rPr>
              <a:t>Представитель руководства </a:t>
            </a:r>
            <a:r>
              <a:rPr b="0" lang="ru-RU" sz="800" spc="-1" strike="noStrike">
                <a:solidFill>
                  <a:srgbClr val="003366"/>
                </a:solidFill>
                <a:latin typeface="Verdana"/>
              </a:rPr>
              <a:t>оценивает и</a:t>
            </a:r>
            <a:r>
              <a:rPr b="1" lang="ru-RU" sz="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3366"/>
                </a:solidFill>
                <a:latin typeface="Verdana"/>
              </a:rPr>
              <a:t>анализирует результативность системы и затраты на ТОиР по принятой на предприятии системе показателей </a:t>
            </a:r>
            <a:r>
              <a:rPr b="0" lang="en-US" sz="800" spc="-1" strike="noStrike">
                <a:solidFill>
                  <a:srgbClr val="003366"/>
                </a:solidFill>
                <a:latin typeface="Verdana"/>
              </a:rPr>
              <a:t>KPI</a:t>
            </a:r>
            <a:r>
              <a:rPr b="0" lang="ru-RU" sz="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09480" y="3384720"/>
            <a:ext cx="901800" cy="901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612720" y="5319720"/>
            <a:ext cx="763560" cy="8539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8217000" y="3564000"/>
            <a:ext cx="782640" cy="7826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8245440" y="5634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Внедрение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566640" y="728640"/>
            <a:ext cx="837108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и числе пользователей не более 10 и при условии, что в их числе нет пользователей удаленных филиалов, не включенных в локальную вычислительную сеть предприятия,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жет быть поставлен </a:t>
            </a: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для самостоятельного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внедрения силами заказчика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льзуясь руководствами, заказчик сможет </a:t>
            </a:r>
            <a:r>
              <a:rPr b="1" lang="ru-RU" sz="1500" spc="-1" strike="noStrike">
                <a:solidFill>
                  <a:srgbClr val="003366"/>
                </a:solidFill>
                <a:latin typeface="Arial"/>
              </a:rPr>
              <a:t>самостоятельно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установить программное обеспече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вести информацию об оборудовании в базу данных системы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зучить и освоить возможности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и проведении ТОиР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научиться пользоваться отчетными документами,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научиться анализировать систему ТОиР по измеряемым показателям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и числе пользователей более 10 внедре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, как правило, осуществляется с участием консультантов компании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IT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5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itm.spb.ru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) – дочерней организации НПП СпецТек, специализирующейся на услугах внедрения этой системы. То же самое касается случая, когда, независимо от числа пользователей, в информационной системе ТОиР будут работать пользователи удаленных филиалов заказчика, не включенных в локальную вычислительную сеть предприятия. Заказчик также может воспользоваться услугами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ITM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 при числе пользователей, не превышающем 10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Компания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ITM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едоставляет пакеты услуг по внедрению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экспресс-внедре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,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типовое внедре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недрение расширенных возможностей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: </a:t>
            </a: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Стоимость и техническая поддержка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528" name=""/>
          <p:cNvSpPr/>
          <p:nvPr/>
        </p:nvSpPr>
        <p:spPr>
          <a:xfrm>
            <a:off x="657360" y="5094360"/>
            <a:ext cx="828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ьзователь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может бесплатно посетить ежемесячный семинар, посвященный принципам работы TRIM, который проводится для пользователей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в офисе компани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по адресу: Санкт-Петербург, ул. Академика Павлова, дом 7а. Семинар проводится в первый вторник каждого месяц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За дополнительной информацией обращайтесь к специалистам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Тел. +7(812) 329-4560, Факс +7(812) 329-4561,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itm@itm.spb.ru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7360" y="728640"/>
            <a:ext cx="8324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тоимость лицензии на одного пользователя TRIM-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MS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18 290 рублей (НДС не облагаетс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В эту стоимость входят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мпоненты базовой поставки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IM-PMS (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м. слайд 5)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онсультационные услуги в течение 6-ти месяцев с момента оплаты - консультации проводятся в рабочее время по телефону или посредством иных средств связи, приведенных на сайтах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itm.spb.ru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trim.ru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(консультационные услуги не распространяются на работы по адаптации базы данных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бновление версий и консультационные услуги по истечении 6-ти месяцев с момента оплаты предоставляются на основании дополнительного сервисного договора, который заключается по желанию заказчи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тоимость услуг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M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 внедрению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пределяется применительно к каждому проекту. Консультанты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принимают непосредственное участие в процессе внедрения, а также обучают персонал заказчика с тем, чтобы часть работ могла быть выполнена заказчиком. Для определения состава и стоимости работ по внедрению обращайтесь, пожалуйста, в компанию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TM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ли заполните форму на сайте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itm.spb.ru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Комплект поставки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657360" y="954000"/>
            <a:ext cx="8161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 комплект поставки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входит сетевое программное обеспече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и сопутствующая документация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936800"/>
            <a:ext cx="859644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M –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дуль «Техобслуживание»;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W –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дуль «Склад»;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дуль «Каталог»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TRIM-D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OC –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дуль «Документооборот»;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A –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модуль «Администратор»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База данных, подготовленная к вводу информации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строенные типовые формы отчетности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уководство пользователя. Часть 1. Описание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уководство пользователя. Часть 2. Установка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уководство пользователя. Часть 3. Наполнение базы данных в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уководство пользователя. Часть 4. Организация и проведение ТОиР в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уководство пользователя. Часть 5. Оценка и анализ системы ТОиР в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Альбом форм отчетов. Часть 1.Организация и проведения ТОиР в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Альбом форм отчетов. Часть 2.Оценка и анализ системы ТОиР в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PMS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895320" indent="-799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360" y="5578560"/>
            <a:ext cx="818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ставляется в комплекте с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MS SQL Server Express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(свободно распространяемая система управления базой данных)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Основные функции модулей </a:t>
            </a: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773280"/>
            <a:ext cx="6475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писание  и ведение структуры  основных производственных  фондов (паспортизация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ланирование работ по техническому обслуживанию и ремонт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аказ запасных частей для запланированных рабо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едение журнала выполненных рабо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Учет наработки оборудования по счетчика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егистрация текущих значений технических параметров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лассификация и регистрация дефектов (отказов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едение технической документации и инструкци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61800" indent="-361800" algn="just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нализ работоспособности оборудования, эффективности планирования и затрат на ТОиР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0624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54240" y="3581280"/>
            <a:ext cx="573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11280" y="5256360"/>
            <a:ext cx="673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здание справочника запасных частей и материал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е каталога узлов оборудования и запасных ча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апись в базу данных графических изображений узлов оборудова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здание заявки с использованием чертежей каталогов оборудова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едение справочников производителей и поставщик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209680"/>
            <a:ext cx="147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Модуль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«Техобслуживание»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19160" y="4670280"/>
            <a:ext cx="10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Модуль «Склад»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422520"/>
            <a:ext cx="6631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е заявки на закупку запасных частей и материал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Оформление складских приходных докумен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азмещение запасных частей по местам хран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Учет остатков складских запас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писание запасных частей при выполнении работ по техобслуживани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Формирование актов инвентаризации и списа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Анализ неликвидов, движения запчастей, остатков склад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4160" y="6289560"/>
            <a:ext cx="112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Модуль «Каталог»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241280" y="5429160"/>
            <a:ext cx="6098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 – Модель системы управления ТОиР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435720" y="684360"/>
            <a:ext cx="27716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гласно модели в системе ТОиР для выполнения работы должны быть основа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ыполняемые работы разделены на периодические работы, регламентированны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изводителями оборудования, и непериодические работы, направленные н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устранение отказов, повреждений и рисков их возникновения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35720" y="4297320"/>
            <a:ext cx="268128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д изображением каждого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роцесса модели приведены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раткие описания действий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льзователя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 руководстве пользователя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держатся инструкции по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ыполнению операций регламента на каждом этап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оследовательности процесс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040" y="240480"/>
            <a:ext cx="247464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428840"/>
                <a:tab algn="l" pos="201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440" y="968400"/>
            <a:ext cx="5859360" cy="5889600"/>
            <a:chOff x="622440" y="968400"/>
            <a:chExt cx="5859360" cy="5889600"/>
          </a:xfrm>
        </p:grpSpPr>
        <p:sp>
          <p:nvSpPr>
            <p:cNvPr id="124" name=""/>
            <p:cNvSpPr/>
            <p:nvPr/>
          </p:nvSpPr>
          <p:spPr>
            <a:xfrm>
              <a:off x="640080" y="968400"/>
              <a:ext cx="2481840" cy="370440"/>
            </a:xfrm>
            <a:prstGeom prst="cloudCallout">
              <a:avLst>
                <a:gd name="adj1" fmla="val -5745"/>
                <a:gd name="adj2" fmla="val 110319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Периодические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1840" y="968400"/>
              <a:ext cx="2481840" cy="370440"/>
            </a:xfrm>
            <a:prstGeom prst="cloudCallout">
              <a:avLst>
                <a:gd name="adj1" fmla="val 2972"/>
                <a:gd name="adj2" fmla="val 104652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Непериодические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6360" y="1616040"/>
              <a:ext cx="1654200" cy="185040"/>
            </a:xfrm>
            <a:prstGeom prst="wedgeRectCallout">
              <a:avLst>
                <a:gd name="adj1" fmla="val 68236"/>
                <a:gd name="adj2" fmla="val 50000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аспортизация оборудовани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6360" y="1894680"/>
              <a:ext cx="1654200" cy="185040"/>
            </a:xfrm>
            <a:prstGeom prst="wedgeRectCallout">
              <a:avLst>
                <a:gd name="adj1" fmla="val 68717"/>
                <a:gd name="adj2" fmla="val -15407"/>
              </a:avLst>
            </a:prstGeom>
            <a:solidFill>
              <a:srgbClr val="ffffff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Регламенты и норматив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69480" y="1616400"/>
              <a:ext cx="1757880" cy="185400"/>
            </a:xfrm>
            <a:prstGeom prst="wedgeRectCallout">
              <a:avLst>
                <a:gd name="adj1" fmla="val -67648"/>
                <a:gd name="adj2" fmla="val 49416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Регистрация описания дефект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69480" y="1894680"/>
              <a:ext cx="1757880" cy="185040"/>
            </a:xfrm>
            <a:prstGeom prst="wedgeRectCallout">
              <a:avLst>
                <a:gd name="adj1" fmla="val -69106"/>
                <a:gd name="adj2" fmla="val -8138"/>
              </a:avLst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Уточнение типа дефект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1600" y="1709280"/>
              <a:ext cx="1447200" cy="3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снование для выполнения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5280" y="2138400"/>
              <a:ext cx="1639080" cy="387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3366"/>
                  </a:solidFill>
                  <a:latin typeface="Arial"/>
                </a:rPr>
                <a:t>Ввод паспортных данных оборудования и регламента работ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1.1 - 1.2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5280" y="2526480"/>
              <a:ext cx="1639080" cy="87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3366"/>
                  </a:solidFill>
                  <a:latin typeface="Arial"/>
                </a:rPr>
                <a:t>Ввод штатного расписания, каталогов запасных частей, списка сторонних организаций, параметров состояния оборудования, списка типовых работ, технической документации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1.3 - 1.6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6800" y="2138400"/>
              <a:ext cx="1639800" cy="3877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3366"/>
                  </a:solidFill>
                  <a:latin typeface="Arial"/>
                </a:rPr>
                <a:t>Ввод описания дефекта и уточнение его проявления 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" y="5340600"/>
              <a:ext cx="5841720" cy="581400"/>
            </a:xfrm>
            <a:prstGeom prst="downArrowCallout">
              <a:avLst>
                <a:gd name="adj1" fmla="val 89972"/>
                <a:gd name="adj2" fmla="val 251192"/>
                <a:gd name="adj3" fmla="val 41667"/>
                <a:gd name="adj4" fmla="val 3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87320" y="6019200"/>
              <a:ext cx="1757160" cy="387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работоспособности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0480" y="3594240"/>
              <a:ext cx="82728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ирование сроков выполнения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10720" y="3594240"/>
              <a:ext cx="82728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ланирование затрат на ресурс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42040" y="3594240"/>
              <a:ext cx="82728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беспечение  работ ресурсами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2280" y="3594240"/>
              <a:ext cx="93096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формление задания на выполнение  рабо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06200" y="3594240"/>
              <a:ext cx="72396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Выполнение работы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3840" y="3594240"/>
              <a:ext cx="82656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Оформление отчета о выполнении 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8120" y="3779280"/>
              <a:ext cx="10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38360" y="377928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9680" y="3779280"/>
              <a:ext cx="10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3600" y="3779280"/>
              <a:ext cx="10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0520" y="3779280"/>
              <a:ext cx="1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2440" y="6019200"/>
              <a:ext cx="1757880" cy="387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выполнения плана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2200" y="6019200"/>
              <a:ext cx="1757160" cy="387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Анализ затрат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3800" y="4020480"/>
              <a:ext cx="815760" cy="126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Формирование план-графика  для работ: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Периодических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Непериодических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3.1 -2.3.3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480" y="4797000"/>
              <a:ext cx="809640" cy="48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расходов на запчасти и материалы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4.3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6480" y="4363560"/>
              <a:ext cx="809640" cy="48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расходов на сторонние организации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4.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6480" y="4020480"/>
              <a:ext cx="8096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расходов на штаты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4.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7000" y="4020480"/>
              <a:ext cx="821520" cy="609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Оформление  поступления запчастей на склад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2.5.1 - 2.5.4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92800" y="4020480"/>
              <a:ext cx="923760" cy="48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ыдача задания на проведение работ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7800" y="4020480"/>
              <a:ext cx="821160" cy="58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отчета о работе: фактические затраты 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37800" y="4894200"/>
              <a:ext cx="819720" cy="387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наработки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3.3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7800" y="4602600"/>
              <a:ext cx="819720" cy="387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Ввод значений состояния 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9880" y="4020480"/>
              <a:ext cx="714960" cy="977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Использование распечатанного  задания на работу и информации базы данных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1160" y="6601680"/>
              <a:ext cx="5739480" cy="25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Получение данных для оценки результативности и анализа показателей планирования, работоспособности и затрат. </a:t>
              </a: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Руководство пользователя. Часть 5. </a:t>
              </a:r>
              <a:r>
                <a:rPr b="1" i="1" lang="en-US" sz="700" spc="-1" strike="noStrike">
                  <a:solidFill>
                    <a:srgbClr val="003366"/>
                  </a:solidFill>
                  <a:latin typeface="Arial"/>
                </a:rPr>
                <a:t>Альбом отчетов. Часть 2.</a:t>
              </a:r>
              <a:endParaRPr b="0" lang="en-US" sz="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3d7a"/>
                </a:solidFill>
                <a:latin typeface="Verdana"/>
              </a:rPr>
              <a:t>TRIM-PMS</a:t>
            </a:r>
            <a:r>
              <a:rPr b="1" lang="ru-RU" sz="1400" spc="-1" strike="noStrike">
                <a:solidFill>
                  <a:srgbClr val="1e3d7a"/>
                </a:solidFill>
                <a:latin typeface="Verdana"/>
              </a:rPr>
              <a:t> - фактический учет запасных частей </a:t>
            </a:r>
            <a:endParaRPr b="1" lang="en-US" sz="14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308240"/>
            <a:ext cx="822960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ля проведения работ всегда необходимы запасные части и расходные материалы. Большинство использующихся на практике складских программ используют бухгалтерский учет и как правило при передаче запасных частей исполнителям работ списывают их с учета. Практически же полученные на складе запасные части физически переносятся в кладовые ремонтной службы и хранятся там до выполнения работ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-PMS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спользуется фактический учет запасных частей от момента оформления их прихода на так называемый склад ТОиР до момента оформлени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хода при отчете о проведенной работе. Таким образом работникам ремонтной службы предоставляется возможность прослеживать цепочку движения запасных частей от оформления заявки и их получения до фактического расхо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ники складов, входящих в систему бухгалтерского учета, как правило не являются пользователями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IM-PMS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и передают запасные части представителям ремонтных служб, которые далее самостоятельно осуществляют фактический учет, контроль и анализ расходования запасных частей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3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6640" y="142560"/>
            <a:ext cx="8307360" cy="352440"/>
          </a:xfrm>
          <a:prstGeom prst="rect">
            <a:avLst/>
          </a:prstGeom>
          <a:solidFill>
            <a:srgbClr val="fd871b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3d7a"/>
                </a:solidFill>
                <a:latin typeface="Verdana"/>
              </a:rPr>
              <a:t>Складские операции в </a:t>
            </a:r>
            <a:r>
              <a:rPr b="1" lang="en-US" sz="1600" spc="-1" strike="noStrike">
                <a:solidFill>
                  <a:srgbClr val="1e3d7a"/>
                </a:solidFill>
                <a:latin typeface="Verdana"/>
              </a:rPr>
              <a:t>TRIM-PMS</a:t>
            </a:r>
            <a:endParaRPr b="1" lang="en-US" sz="1600" spc="-1" strike="noStrike">
              <a:solidFill>
                <a:srgbClr val="1e3d7a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762120"/>
            <a:ext cx="472428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762120"/>
            <a:ext cx="883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Автоматическое и ручное формирова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заявки для запланированных рабо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743200"/>
            <a:ext cx="403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Обеспечение складских запа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для проведения ТО и ремонт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800600"/>
            <a:ext cx="868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>
              <a:buClr>
                <a:srgbClr val="0033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Расходование и списание запасных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частей и материалов на ТО и ремон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48520" y="1371600"/>
            <a:ext cx="175248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437000" y="5398920"/>
            <a:ext cx="430200" cy="68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437000" y="34290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624720" y="11430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План ТОиР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31080" y="2971800"/>
            <a:ext cx="259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Остатки склада «Склад ТОиР»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001000" y="175248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02000" y="838080"/>
            <a:ext cx="454500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TRIM-P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6400800"/>
            <a:ext cx="228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Отчет о выполненной работе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388620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1295280"/>
            <a:ext cx="838440" cy="914400"/>
          </a:xfrm>
          <a:prstGeom prst="foldedCorner">
            <a:avLst>
              <a:gd name="adj" fmla="val 43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Заявка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4038480"/>
            <a:ext cx="98424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Запчасти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5410080"/>
            <a:ext cx="838080" cy="914400"/>
          </a:xfrm>
          <a:prstGeom prst="foldedCorner">
            <a:avLst>
              <a:gd name="adj" fmla="val 43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Расходный  акт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11280" y="1676520"/>
            <a:ext cx="879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28800" y="167652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86280" y="4267080"/>
            <a:ext cx="2048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352320" y="5769000"/>
            <a:ext cx="838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1904760" y="579132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762120" y="3352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057400" y="426708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137360" y="228564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37360" y="47242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00400"/>
            <a:ext cx="838440" cy="914400"/>
          </a:xfrm>
          <a:prstGeom prst="foldedCorner">
            <a:avLst>
              <a:gd name="adj" fmla="val 43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Требование накладна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311280" y="3581280"/>
            <a:ext cx="879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71280" y="3581280"/>
            <a:ext cx="4906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1295280"/>
            <a:ext cx="917640" cy="10288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Складские электронные документы для заказа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429000"/>
            <a:ext cx="917640" cy="10288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Складские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приходные электронные документы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70480"/>
            <a:ext cx="917640" cy="10288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Складские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расходные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электронные документы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1080" y="4495680"/>
            <a:ext cx="259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Остатки склада «Склад ТОиР»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077320" y="57690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8381880" y="1371600"/>
            <a:ext cx="42228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6248520" y="3200400"/>
            <a:ext cx="1752480" cy="1292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6248520" y="5257800"/>
            <a:ext cx="1847880" cy="1147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8381880" y="3505320"/>
            <a:ext cx="42228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8381880" y="539892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H="1">
            <a:off x="5920920" y="1752480"/>
            <a:ext cx="327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943240" y="576900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886200"/>
            <a:ext cx="3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2360" y="23036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Служба снабже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6640" y="43736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Служба снабже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639936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Служба снабжения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0:27:25Z</dcterms:created>
  <dc:creator/>
  <dc:description/>
  <dc:language>en-US</dc:language>
  <cp:lastModifiedBy>SysOp</cp:lastModifiedBy>
  <dcterms:modified xsi:type="dcterms:W3CDTF">2009-12-16T10:13:30Z</dcterms:modified>
  <cp:revision>711</cp:revision>
  <dc:subject/>
  <dc:title>Автоматизированная система управления техническим обслуживанием и ремонтом на основе программного обеспечения TRIM   TRIM-Planned Maintenance System   </dc:title>
</cp:coreProperties>
</file>